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736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669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D77F1-6FB6-470C-9173-C3106F8ACF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7688E-7165-4C17-955A-C130170BC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23AF9-77FF-456B-82AA-22C354F76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1F69-21E8-4903-A318-41BB84E57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657B6-B4FA-47FD-9505-D5A6FEC14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0E90A-0915-4A51-B8B3-D86346D0B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2A917-CF61-416C-927B-27CA8E29A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038F9-8B7E-4865-844D-E36A80570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3206-E041-4EB4-94A5-6B001B1E1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E1327-BFEE-4E37-AE8C-67A227CCD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54E1-7762-4890-9148-BF86A9D9A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A056-7B5D-4330-849F-3A798713B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E4B18-622C-42FB-B741-1DF0AE8EA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5DEDF-3897-417B-8CC6-65E8D9BB7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67478-C9CE-4717-88A5-27EA5FAF6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87E42-8BA2-49E0-B044-9F80BDC37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0A388-0923-4976-B03A-8D147222E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37961-3CCF-4804-9CD4-73DB66221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DCF4-B63C-4228-85A0-C59741AA4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447F8-50C1-4DFF-AEE4-30846B02D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96B83-60E5-4333-B931-1E6E1009D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15C67-D18A-4D82-A3E4-38AC926CC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47778-FFF4-4AE6-87DE-FD8D5578B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683F-79A4-4C24-86B2-4128BACA4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023A6-FA86-4A79-8DB5-AA4479DDF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59C46-0A42-437B-A49F-EB702C5BA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0B20-7387-49E8-859B-ECEDB8418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02AC8-6A6B-4DE2-8C4A-66D422B46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ECB8C-3729-4B10-BB1F-491BC99C7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1A41-B546-40A5-95F6-AF82B9696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6CC6-53CD-4340-AF02-AFF4C4187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7B4E-F081-4ABB-9C34-B3DE85A01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EFDA-88EC-4B24-99A8-4CED38228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53F7-7719-4754-A471-D6C1BC09E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20BF-2C8F-4E1D-A36C-4B4640479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17D6-4643-4D3A-A26B-15B69D1E1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9B90-1C59-49D9-A2E8-3084C8ED0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0AD1-DCD1-40AA-826E-0B156A7A2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54DA-D295-4D55-BC5D-AF7EDDC09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CCEF-18D4-47C6-8B0B-45A203553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B518-E35C-4A04-8E07-64C85A19A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4B35-ECEF-4A74-A6B7-D960286E0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13963-21B9-4BEC-8AE0-3881C7251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e.org/" TargetMode="External"/><Relationship Id="rId3" Type="http://schemas.openxmlformats.org/officeDocument/2006/relationships/hyperlink" Target="http://www.pbl-onlin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e.org/" TargetMode="External"/><Relationship Id="rId3" Type="http://schemas.openxmlformats.org/officeDocument/2006/relationships/hyperlink" Target="http://www.pbl-online.org/" TargetMode="External"/><Relationship Id="rId4" Type="http://schemas.openxmlformats.org/officeDocument/2006/relationships/hyperlink" Target="http://collaboratory.nunet.net/cwebdocs/index.html" TargetMode="External"/><Relationship Id="rId5" Type="http://schemas.openxmlformats.org/officeDocument/2006/relationships/hyperlink" Target="http://collaboratory.nunet.net/cwebdocs/index.html" TargetMode="External"/><Relationship Id="rId6" Type="http://schemas.openxmlformats.org/officeDocument/2006/relationships/hyperlink" Target="http://www.imsa.edu/" TargetMode="External"/><Relationship Id="rId7" Type="http://schemas.openxmlformats.org/officeDocument/2006/relationships/hyperlink" Target="http://www.glef.org/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vde.state.wv.us/teach21/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faculty-staff.ou.edu/D/David.S.Durica-1/graduate.JPG&amp;imgrefurl=http://faculty-staff.ou.edu/D/David.S.Durica-1/&amp;usg=__Ypj36ZE0HV-ZWAdSuE2uhhkX0u0=&amp;h=600&amp;w=428&amp;sz=13&amp;hl=en&amp;start=3&amp;um=1&amp;tbnid=0KKq3ER-tziIOM:&amp;tbnh=135&amp;tbnw=96&amp;prev=/images%3Fq%3DGraduate%26um%3D1%26hl%3Den%26rls%3DDGUS,DGUS:2006-22,DGUS:en%26sa%3DN" TargetMode="External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pperplate Gothic Bold"/>
              </a:rPr>
              <a:t>PBL</a:t>
            </a: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 scene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ges of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represent 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209680"/>
            <a:ext cx="3809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ore universal theme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Beth by writing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ing key scene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rn English, in mod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438280"/>
            <a:ext cx="76320" cy="198144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0" y="837720"/>
            <a:ext cx="75438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15238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en to diffe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nds. Make a grap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featur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sounds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disturbing to the 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five s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lution problem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ty. Form t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ces to stud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mmend sol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86000"/>
            <a:ext cx="76320" cy="228600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66680" y="182880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research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a Renaissance arti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a model of a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a da Vinci draw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create a TV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deo about a 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286000"/>
            <a:ext cx="3809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y various develop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e time perio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nd present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 to the question, “W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naissance a rebirth o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 new baby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2590920"/>
            <a:ext cx="76320" cy="228600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90720" y="188280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…                           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 various car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e games to de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dds of wi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3623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 a “Probability Booth”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nnual PTA fundrai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ival, with activities wh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ds of winning would at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ts of play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how much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would cost to play,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winners receive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profit you ex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819520"/>
            <a:ext cx="76320" cy="2666880"/>
          </a:xfrm>
          <a:prstGeom prst="rect">
            <a:avLst/>
          </a:prstGeom>
          <a:solidFill>
            <a:srgbClr val="9918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From activities &amp; “doing projects” to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0" y="837720"/>
            <a:ext cx="7467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68480" y="2860560"/>
            <a:ext cx="5407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30636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e tradecraft of 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4600" y="1028880"/>
            <a:ext cx="54054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30636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ev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1040" y="3908520"/>
            <a:ext cx="54072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30636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rev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38080"/>
            <a:ext cx="5181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80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ssential elements of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4952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066680"/>
            <a:ext cx="74674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project, in PB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organized around an open-ended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iving Question, problem, or chall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s a need to know essential content &amp;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s inquiry to learn and/or create something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ults in a publicly presented product or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ows student voice &amp;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s critical thinking, problem solving, collaboration and various forms of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24784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eah, but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837720"/>
            <a:ext cx="24382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066680"/>
            <a:ext cx="54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’s not standards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can’t cover enough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 students aren’t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can’t use traditional teach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’s loud and mes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’s no individ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don’t have tim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200400" cy="200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esigning &amp; implement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55627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371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esigning &amp; implementing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762120"/>
            <a:ext cx="5410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971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5257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505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371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91440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velop an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y 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de on the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rite a Driving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H="1" rot="10800000">
            <a:off x="606600" y="1222200"/>
            <a:ext cx="2133360" cy="990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6095880" y="4727520"/>
            <a:ext cx="1905120" cy="9907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095880" y="1145520"/>
            <a:ext cx="1905120" cy="990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hways to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0" y="837720"/>
            <a:ext cx="32767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4876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file cab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-world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095880" y="2288880"/>
            <a:ext cx="1905120" cy="99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095880" y="3508200"/>
            <a:ext cx="1905120" cy="990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rot="10800000">
            <a:off x="533520" y="2365200"/>
            <a:ext cx="2209680" cy="9907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rot="10800000">
            <a:off x="533520" y="3508200"/>
            <a:ext cx="2209680" cy="1067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rot="10800000">
            <a:off x="533520" y="4727520"/>
            <a:ext cx="2209680" cy="990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57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iculum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issues &amp;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029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inte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3336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133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BIE: Who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3200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066680"/>
            <a:ext cx="66294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E is dedicated to improving 21st Century teaching and learning by creating and disseminating knowledge, products, and practices for effective Project 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profit located near 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hops and partners in over 30 states and 6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b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pbl-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BL Handboo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BL Toolk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eries, and project based curriculum units for high school Economics and U.S.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82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an idea: what will students do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a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 a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81280" y="1599840"/>
            <a:ext cx="41148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uct a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e a 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a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ate a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a multimedia 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* See PBL Handbook, p. 58-59 or PBL Starter Kit, p. 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838080"/>
            <a:ext cx="6553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553080" y="914400"/>
            <a:ext cx="245592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4572000" cy="3432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380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pecifying learning targets and C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0" y="837720"/>
            <a:ext cx="7086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066680"/>
            <a:ext cx="655308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ent standar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 then select appropriat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s and C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century skil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boration, presentation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ical thinking in al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ope of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8080"/>
            <a:ext cx="3352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523880"/>
            <a:ext cx="1524240" cy="1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43000" y="1066680"/>
            <a:ext cx="7543440" cy="5190840"/>
            <a:chOff x="1143000" y="1066680"/>
            <a:chExt cx="7543440" cy="5190840"/>
          </a:xfrm>
        </p:grpSpPr>
        <p:sp>
          <p:nvSpPr>
            <p:cNvPr id="214" name=""/>
            <p:cNvSpPr/>
            <p:nvPr/>
          </p:nvSpPr>
          <p:spPr>
            <a:xfrm>
              <a:off x="1143000" y="1066680"/>
              <a:ext cx="2513880" cy="58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6880" y="1066680"/>
              <a:ext cx="2513880" cy="58068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mi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1120" y="1066680"/>
              <a:ext cx="2513880" cy="58068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mbiti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1647360"/>
              <a:ext cx="2513880" cy="5792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6880" y="1647360"/>
              <a:ext cx="251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-15 contact 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1120" y="1647360"/>
              <a:ext cx="251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0+ contact 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2226600"/>
              <a:ext cx="2513880" cy="63936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rea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6880" y="2226600"/>
              <a:ext cx="25138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ne subject; 1-2 power stand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1120" y="2226600"/>
              <a:ext cx="25138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terdisciplinary; 3-4 power stand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2866320"/>
              <a:ext cx="2513880" cy="58068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6880" y="2866320"/>
              <a:ext cx="251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1120" y="2866320"/>
              <a:ext cx="251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3447000"/>
              <a:ext cx="2513880" cy="58068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56880" y="3447000"/>
              <a:ext cx="251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1120" y="3447000"/>
              <a:ext cx="251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munity/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43000" y="4028040"/>
              <a:ext cx="2513880" cy="91404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ho’s Inv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6880" y="4028040"/>
              <a:ext cx="25138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ne teac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1120" y="4028040"/>
              <a:ext cx="25138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veral teachers, outside experts, commun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3000" y="4942080"/>
              <a:ext cx="2513880" cy="63936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56880" y="4942080"/>
              <a:ext cx="25138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1120" y="4942080"/>
              <a:ext cx="25138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erts, community, world, we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5581440"/>
              <a:ext cx="2513880" cy="674280"/>
            </a:xfrm>
            <a:prstGeom prst="rect">
              <a:avLst/>
            </a:prstGeom>
            <a:solidFill>
              <a:srgbClr val="d6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Autono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6880" y="5581440"/>
              <a:ext cx="251388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acher-defined; tightly 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1120" y="5581440"/>
              <a:ext cx="251388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-defined and 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6880" y="1066680"/>
              <a:ext cx="1080" cy="51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71120" y="1066680"/>
              <a:ext cx="1080" cy="51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1647360"/>
              <a:ext cx="7542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3000" y="222660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43000" y="286632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43000" y="344700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3000" y="402804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3000" y="494208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5581440"/>
              <a:ext cx="754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1066680"/>
              <a:ext cx="1080" cy="51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85360" y="1066680"/>
              <a:ext cx="1080" cy="51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3000" y="1066680"/>
              <a:ext cx="7542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3000" y="6256080"/>
              <a:ext cx="7542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6248520"/>
            <a:ext cx="4495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5562720"/>
            <a:ext cx="457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49528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40384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429000"/>
            <a:ext cx="4495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954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209680"/>
            <a:ext cx="44956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have a Driving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s interest and/or the feeling of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inds them “Why we’re doing this toda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s projec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90720"/>
            <a:ext cx="48006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each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tures &amp; communicates the purpose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tes and focuses 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380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Driving Question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263600"/>
            <a:ext cx="723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ocative or challe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-ended; multiple possibl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able 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able (but not in a simple wa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ed to important content in the discip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838080"/>
            <a:ext cx="37339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380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Driving Question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995400"/>
            <a:ext cx="83818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is war justified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we genetically modify organism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makes someone a her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4280" indent="-511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we design the best networking plan for a busines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4280" indent="-511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we use geometry to design holes for a miniature go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4280" indent="-511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ould global warming affect our community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we capture the spirit of our city in art, music and poetry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we plan an effective campaign to prevent water pollu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lak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we design a website for teenagers about books they lik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838080"/>
            <a:ext cx="51055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380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38080"/>
            <a:ext cx="28954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“simple right answer” to more complex, local, and actively problem-solv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characteristics of healthy so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our soil healthy enough to support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etable ga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31240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38320" cy="140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0020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abstract to concrete and challeng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architects use geomet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design a theatre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s specifications 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est number of sea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7432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38320" cy="140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“too big” to answerab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has technology affected world histor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es technology make war more or less humane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31240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38320" cy="1400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om “sounds like a teacher” to student-friendly (use the book to study a question, not the question to study a boo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es the book “Night” teach us about the hollocau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can we prevent genocide in the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5812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38080"/>
            <a:ext cx="27432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962000" cy="13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285840"/>
            <a:ext cx="2733480" cy="215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orkshop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35053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919160"/>
            <a:ext cx="70102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n understanding of best practices in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, assessment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lore online resources for P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ctice using tools and processes for projec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he first draft of a project for classroo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te in a peer review protocol for pro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62120"/>
            <a:ext cx="2057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15224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ing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81080" y="2527200"/>
            <a:ext cx="69343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 with the End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aft the Driv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010280" y="380880"/>
            <a:ext cx="1428840" cy="114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our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762120"/>
            <a:ext cx="20574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1306440"/>
            <a:ext cx="7238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ing in tabl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o more than 3-5 per group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handout to select, refine or create a Driving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743200"/>
            <a:ext cx="1523880" cy="380880"/>
          </a:xfrm>
          <a:prstGeom prst="rect">
            <a:avLst/>
          </a:prstGeom>
          <a:solidFill>
            <a:srgbClr val="ced0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757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</a:rPr>
              <a:t>Repor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527200"/>
            <a:ext cx="69343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r group’s ideas/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010280" y="380880"/>
            <a:ext cx="1428840" cy="114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380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protocol for refining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38080"/>
            <a:ext cx="5410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1447920"/>
            <a:ext cx="8152920" cy="3200040"/>
            <a:chOff x="685800" y="1447920"/>
            <a:chExt cx="8152920" cy="3200040"/>
          </a:xfrm>
        </p:grpSpPr>
        <p:sp>
          <p:nvSpPr>
            <p:cNvPr id="306" name=""/>
            <p:cNvSpPr/>
            <p:nvPr/>
          </p:nvSpPr>
          <p:spPr>
            <a:xfrm>
              <a:off x="685800" y="1447920"/>
              <a:ext cx="81514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 my students read and comprehend the Driving Question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1910880"/>
              <a:ext cx="81514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the Driving Question open-ended and does it require a complex answer, or is there one “right answer” or a simple “yes” or “no”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2715480"/>
              <a:ext cx="8151480" cy="8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 answer the Driving Question, will my students need to learn important content knowledge and use 2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century skill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3524760"/>
              <a:ext cx="8151480" cy="11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oes the Driving Question allow me to create a local context for the topic(s) under study or have students solve an authentic / real problem?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onal, but recommended if possib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" y="1910880"/>
              <a:ext cx="815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2715480"/>
              <a:ext cx="8151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3524760"/>
              <a:ext cx="8151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1447920"/>
              <a:ext cx="1080" cy="319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37280" y="1447920"/>
              <a:ext cx="1440" cy="319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1447920"/>
              <a:ext cx="8151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4646880"/>
              <a:ext cx="8151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248520" y="5181480"/>
            <a:ext cx="1181160" cy="82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562720" y="5334120"/>
            <a:ext cx="647640" cy="581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841200" y="5410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fo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162920" y="228600"/>
            <a:ext cx="1657080" cy="1138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228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lanning &amp; Preparing for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62120"/>
            <a:ext cx="55627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971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&amp; Pre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5257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3505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lect &amp;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1371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3657600"/>
            <a:ext cx="3733920" cy="228600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lminating products/ru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ing &amp; lear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calendar/check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ange/cre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Sample entry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8080"/>
            <a:ext cx="3657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866880" cy="7146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057400" y="2209680"/>
            <a:ext cx="61722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: Act like a teenager (a well-behaved one) and respond to prompts from your instructor after reading the “Entry Document” that is the entry event for a sampl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1809720" cy="1447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aging students/beginning inqui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est 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m, video,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vely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 or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90720"/>
            <a:ext cx="57913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876760" cy="2284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52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ocative 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ling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zzling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ece of real or mock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g, poem, 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minating Products and Presentations: Ti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x of individual and group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e products as authentic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audience ups the stakes = higher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 students to share presentation du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 audience members a 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90720"/>
            <a:ext cx="70866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731520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minating Products and Presentations: Ti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death-by-repetitive-presen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ed answers to DQ or solutions to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te point of view / ro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DQ but use varied texts, places, times, people, cul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ice of products / ways to present answer to 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990720"/>
            <a:ext cx="7391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31520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Work in PBL: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er chooses group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a set of expectations for group work (e.g., collaboration rubric)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ss/grad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contracts (with a firing claus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 students project management skills: dividing tasks, managing time, setting dead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ular check-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90720"/>
            <a:ext cx="396252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08660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ject plann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762120"/>
            <a:ext cx="4267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01064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itle 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Your ideal grad – begin with the end in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837720"/>
            <a:ext cx="6781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293508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ject plann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62120"/>
            <a:ext cx="42670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3310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52280" y="380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eb-based PB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38080"/>
            <a:ext cx="41148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1447920"/>
            <a:ext cx="662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-To” S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pbl-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llaboratory.nunet.net/cwebdoc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imsa.ed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H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ww.glef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projectapproach.com  (K-8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6553080" y="228600"/>
            <a:ext cx="2373480" cy="1781280"/>
          </a:xfrm>
          <a:prstGeom prst="rect">
            <a:avLst/>
          </a:prstGeom>
          <a:ln w="9360">
            <a:solidFill>
              <a:srgbClr val="8a1522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Web-based PB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38080"/>
            <a:ext cx="42670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1143000"/>
            <a:ext cx="67816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project libra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vde.state.wv.us/teach21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projects.hightechhigh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www.pbl-online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pathways.ohiorc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www.envisionprojects.org/cs/envision/print/docs/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www.wested.org/pblnet/exemplary_projec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af18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http://virtualschoolhouse.visionlink.org/projec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553080" y="228600"/>
            <a:ext cx="2373480" cy="1781280"/>
          </a:xfrm>
          <a:prstGeom prst="rect">
            <a:avLst/>
          </a:prstGeom>
          <a:ln w="9360">
            <a:solidFill>
              <a:srgbClr val="8a1522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838080"/>
            <a:ext cx="2209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233440" cy="296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457200" y="1143000"/>
            <a:ext cx="640080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ent and Skills Standard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ject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on th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ship for 21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d refine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riving 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develop your culmina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idea for you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try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Everybody is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632448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464832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81080" y="4419720"/>
            <a:ext cx="152424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33520" y="3429000"/>
            <a:ext cx="819000" cy="1238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809640" cy="12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276720" y="3352680"/>
            <a:ext cx="1238040" cy="6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066680" y="1447920"/>
            <a:ext cx="819360" cy="618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276720" y="1295280"/>
            <a:ext cx="13237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533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nd 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0" y="989640"/>
            <a:ext cx="29718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43000"/>
            <a:ext cx="69343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skills need to be develo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uilding students’ content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tay engaged in school, students need to c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learning – by being given meaningfu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s count – more personalized tea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lead to more rigorou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895480" cy="2171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77120" y="5029200"/>
            <a:ext cx="2361960" cy="990720"/>
          </a:xfrm>
          <a:prstGeom prst="horizontalScroll">
            <a:avLst>
              <a:gd name="adj" fmla="val 1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08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Getting from here to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0" y="837720"/>
            <a:ext cx="4495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6440" y="1285920"/>
            <a:ext cx="998280" cy="388800"/>
            <a:chOff x="676440" y="1285920"/>
            <a:chExt cx="998280" cy="3888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676440" y="1285920"/>
              <a:ext cx="9982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85440" y="129492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06920" y="1042920"/>
            <a:ext cx="1187280" cy="412920"/>
            <a:chOff x="3706920" y="1042920"/>
            <a:chExt cx="1187280" cy="412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706920" y="1042920"/>
              <a:ext cx="11872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733560" y="1066320"/>
              <a:ext cx="11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10280" y="1359000"/>
            <a:ext cx="1005120" cy="395280"/>
            <a:chOff x="7010280" y="1359000"/>
            <a:chExt cx="1005120" cy="395280"/>
          </a:xfrm>
        </p:grpSpPr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7010280" y="1359000"/>
              <a:ext cx="10051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021080" y="1371240"/>
              <a:ext cx="97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33520" y="2286000"/>
            <a:ext cx="1371600" cy="247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5105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entury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2209680"/>
            <a:ext cx="2058840" cy="2895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057400" y="1905120"/>
            <a:ext cx="4191120" cy="380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ctivity-based teaching vs.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8080"/>
            <a:ext cx="57150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1219320"/>
            <a:ext cx="8153280" cy="3668400"/>
            <a:chOff x="609480" y="1219320"/>
            <a:chExt cx="8153280" cy="3668400"/>
          </a:xfrm>
        </p:grpSpPr>
        <p:sp>
          <p:nvSpPr>
            <p:cNvPr id="97" name=""/>
            <p:cNvSpPr/>
            <p:nvPr/>
          </p:nvSpPr>
          <p:spPr>
            <a:xfrm>
              <a:off x="609480" y="1219320"/>
              <a:ext cx="4116960" cy="394920"/>
            </a:xfrm>
            <a:prstGeom prst="rect">
              <a:avLst/>
            </a:prstGeom>
            <a:solidFill>
              <a:srgbClr val="ced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ty-based tea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6440" y="1219320"/>
              <a:ext cx="4034880" cy="394920"/>
            </a:xfrm>
            <a:prstGeom prst="rect">
              <a:avLst/>
            </a:prstGeom>
            <a:solidFill>
              <a:srgbClr val="ced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1614240"/>
              <a:ext cx="4116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joyable; active, hands-on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6440" y="1614240"/>
              <a:ext cx="4034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gaging (emotionall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llectually); “heads-on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313720"/>
              <a:ext cx="41169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cused on theme, concept, time period, novel, topic, culture, textbook chap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6440" y="2313720"/>
              <a:ext cx="40348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iving question, problem or 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480" y="3318480"/>
              <a:ext cx="4116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 do projects” = curricular add-on  (“dessert”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6440" y="3318480"/>
              <a:ext cx="4034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ct organizes curriculum &amp; instruction (“main course”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4017960"/>
              <a:ext cx="4116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essment = 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6440" y="4017960"/>
              <a:ext cx="40348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480" y="4413240"/>
              <a:ext cx="41169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hoo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6440" y="4413240"/>
              <a:ext cx="40348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6440" y="1219320"/>
              <a:ext cx="1440" cy="36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80" y="1614240"/>
              <a:ext cx="815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2313720"/>
              <a:ext cx="815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318480"/>
              <a:ext cx="815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4017960"/>
              <a:ext cx="815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4413240"/>
              <a:ext cx="815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1219320"/>
              <a:ext cx="1440" cy="366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61680" y="1219320"/>
              <a:ext cx="1080" cy="366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480" y="1219320"/>
              <a:ext cx="8152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4886640"/>
              <a:ext cx="8152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y-based teaching vs.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48769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616040"/>
            <a:ext cx="7391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it PB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 scenes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make collag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s that represent major 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en to different sounds. Make a graph. Identif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s of common sounds that are disturbing to the 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 a research report on a Renaissance artist, bui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l of a device from a da Vinci drawing, and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TV news video about a major event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 various card and dice games to determin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ability of wi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361960" cy="202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ADMIN</cp:lastModifiedBy>
  <dcterms:modified xsi:type="dcterms:W3CDTF">2010-02-03T00:33:12Z</dcterms:modified>
  <cp:revision>2</cp:revision>
  <dc:subject/>
  <dc:title>PowerPoint Presentation  -  Title Here</dc:title>
</cp:coreProperties>
</file>